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9BA-0F30-4FB4-A2CE-A9959804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2E7-0718-48F8-87B9-EC6EE75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843-C507-4417-989A-BF1C99D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1F7-8827-4DD7-8793-96A02CA9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079-6D78-4FA1-B90E-543F325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030-B808-425D-BED1-FBF7F14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692-97ED-4995-8023-007C39E3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15A-51BB-4AE9-84C3-C27D23F3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D2D-77E8-47FF-83A1-56BBAA0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CDC-F7CE-487E-9C40-2844760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B3A-3013-4FCA-913B-83C407F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FCA-F42B-4651-B10B-528A91CF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943-607A-4AB8-90BC-4F4D46E7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Las comidas por el desayuno, el amuerzo, la cena y el pas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0955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Anthony Nav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933720" cy="323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5520" y="4648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124080" cy="281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4724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el Cheerios. Es muy bu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5105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! Cheerios es muy feo! El Mini Wheats es el cereal bu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467160" cy="23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095560" cy="180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3657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1320" y="1447920"/>
            <a:ext cx="2361960" cy="144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6667" t="4449" r="5002" b="2220"/>
          <a:stretch/>
        </p:blipFill>
        <p:spPr>
          <a:xfrm>
            <a:off x="5867280" y="3124080"/>
            <a:ext cx="2438640" cy="193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992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rcRect l="2284" t="9553" r="1717" b="0"/>
          <a:stretch/>
        </p:blipFill>
        <p:spPr>
          <a:xfrm>
            <a:off x="762120" y="4114800"/>
            <a:ext cx="213336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6216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048120" y="3429000"/>
            <a:ext cx="30859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600" t="0" r="3165" b="0"/>
          <a:stretch/>
        </p:blipFill>
        <p:spPr>
          <a:xfrm>
            <a:off x="762120" y="838080"/>
            <a:ext cx="1523880" cy="431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3200400" cy="21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queso a la pa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1905120" cy="1199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2514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2990880" cy="288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008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362320" y="3790800"/>
            <a:ext cx="3066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819520" cy="221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505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amburguesa con qu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3457440" cy="230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76720" y="35812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pa de p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0" t="18670" r="1335" b="12006"/>
          <a:stretch/>
        </p:blipFill>
        <p:spPr>
          <a:xfrm>
            <a:off x="4114800" y="44197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43400" y="6324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58000" y="457200"/>
            <a:ext cx="214308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629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r. Pe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076480" cy="335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4724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aíz del flotador de cer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467080" cy="2324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helado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934320" y="3809880"/>
            <a:ext cx="18558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3581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brow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28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for Ashland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ousseau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Nava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ttp://www.reddi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8111" t="5914" r="8111" b="13300"/>
          <a:stretch/>
        </p:blipFill>
        <p:spPr>
          <a:xfrm>
            <a:off x="609480" y="33526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2520" y="3733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AG IS BAD! NOT INTENDED FOR THE 9G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670" t="28669" r="28335" b="28669"/>
          <a:stretch/>
        </p:blipFill>
        <p:spPr>
          <a:xfrm>
            <a:off x="4724280" y="47242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44298" r="0" b="46478"/>
          <a:stretch/>
        </p:blipFill>
        <p:spPr>
          <a:xfrm rot="1915200">
            <a:off x="3809520" y="5333760"/>
            <a:ext cx="3714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33:00Z</dcterms:created>
  <dc:creator>navarroant</dc:creator>
  <dc:description/>
  <dc:language>en-US</dc:language>
  <cp:lastModifiedBy>navarroant</cp:lastModifiedBy>
  <dcterms:modified xsi:type="dcterms:W3CDTF">2012-04-05T17:06:40Z</dcterms:modified>
  <cp:revision>5</cp:revision>
  <dc:subject/>
  <dc:title>Las Comidas</dc:title>
</cp:coreProperties>
</file>